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AA26-A051-4BB4-B062-4206FF148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9C3-AFA6-4CE6-BEFE-705EA1840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121-C9AF-43C5-A6C9-B0D084A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E79-E072-4D15-A176-72C68009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595-5D26-4631-99E8-F1A435A5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EEE-0687-40D4-85A3-E5A160A9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1D1-D1AC-4978-86FF-48D000B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9BC-3BA4-4350-B9DD-AA38213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B24-2407-4DB0-A960-D914860D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913-4207-41FB-88E0-70D71AC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B76-2918-46CA-AA32-2A00CE8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8CF-BE0B-4599-8BDB-9A0A6B6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A1D-F2B0-4B1E-8968-924E7DF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DF2-B33D-4337-AE12-2486CD02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4A36-5043-4CAB-A483-1171660740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бновление содержания ДООП и  реализации их на практике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Rectangle 165"/>
          <p:cNvSpPr/>
          <p:nvPr/>
        </p:nvSpPr>
        <p:spPr>
          <a:xfrm>
            <a:off x="4427640" y="2349360"/>
            <a:ext cx="41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емахина Т.П.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методист МАУДО «Ц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Д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«Созвездие» г.Орск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ребования к оформлению ДООП: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692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 должен быть набран на компьютере  в тестовом редактор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шрифт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егль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аницы нумеруются последовательно, кроме титульного 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головки набираются полужирным шрифтом, выравнивание по центру. Точка в конце заголовка не ст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атериал, дополняющий текст документа, помещаем  в приложение.                             Приложения располагаются в порядке ссылок на них в тексте документа.                                                             В тексте на все приложения должны быть ссылки. Приложения должны иметь общую с остальной частью документа нумерацию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54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5" name="Picture 4" descr="C:\Users\admin\Downloads\images.jpg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0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евые ориентир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олнительного образования детей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48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творческих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здоровья и формирование культуры здорового и безопасн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свободного времени и адаптация к жизни в обще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ориентация, выявление и поддержка детей, проявивших выдающиеся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Формирование и развитие творческих способностей обучающихс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409400"/>
            <a:ext cx="78120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й потенциал и потребность обучающихся в творческом самовыраж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обучающихся потребность к участию в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ть и развивать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арен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лантливых детей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вать творческие способности и воображение обучающихся в процессе игровог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, исследовательскую и творческую деятельность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56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крепление здоровья и формирование культуры здорового и безопасного образа жизни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стойчивое ценностное отношение к своему здоров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негативное отношение  к асоциальным проявлениям несоблюдения правил ЗОЖ (курение, алкоголь, наркотики, допинг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рактического взаимодействия с окружающей сред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здорового образа жизни, гигиенические знания и ум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безопасной жизне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рганизация  свободного времени и адаптация к жизни в обществе</a:t>
            </a:r>
            <a:br>
              <a:rPr sz="3200"/>
            </a:b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273320"/>
            <a:ext cx="781200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навыки безопасного практического взаимодействия с социально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спитывать общественную активность, или активную жизненную позицию, интерес  к общественной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основы безопасности жизнедеятельности и  умение адаптироваться к новым условия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действовать осознанию своих интересов, способностей, общественных ценностей, связанных с выбором своего места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88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Профессиональная ориентация и поддержка детей, проявивших выдающиеся способност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88508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первичные представления о мире современных професс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накомить с трудом людей различных профессий (указать конкрет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систему представлений обучающихся о мире современных профессий и их востребованности в настояще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представления о профессиях, связанных со спецификой местных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вышать информированность об основных профессиях (указать направление деяте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16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рекомендац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ть содержание   воспитательного модуля к ДООП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31640" y="1915920"/>
            <a:ext cx="7343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для педагогов, реализующих ДООП на базе иных организаций (школ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в груп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 обучения – от 15 до 3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обучения – от 12 до 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и 4 годы обучения – от 10 до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332000" y="189000"/>
            <a:ext cx="74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476360" y="98100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651640" y="907920"/>
            <a:ext cx="34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476360" y="1773360"/>
            <a:ext cx="7343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pedsovet.su/_ld/458/31094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835280" y="0"/>
            <a:ext cx="68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1979640" y="1125360"/>
            <a:ext cx="26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508720" y="1052640"/>
            <a:ext cx="338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835280" y="2133720"/>
            <a:ext cx="69847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22-05-30T10:06:37Z</dcterms:modified>
  <cp:revision>752</cp:revision>
  <dc:subject/>
  <dc:title>Diapositiva 1</dc:title>
</cp:coreProperties>
</file>