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25DB-596E-4B3F-8F2C-C7C236B06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6CC5-4DFC-4F8E-9381-3255F01F09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0B8-E0B3-4039-9F88-88DAAE51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089-B75E-49DF-A5CB-EBE276AC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746-4632-4870-9115-D76E5F6E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4D3-98FB-4E55-8E6E-EC10E040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0DE-D929-430E-B53B-3FABFB9D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B61-88DE-481F-96FC-A99974A0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297-C4A8-44F1-AC33-C54187B2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0036-3D64-4406-9C3D-9E9D4BD0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7DE-49F3-42FE-AF71-48731A3C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629-24D2-45F7-8D15-42D295A1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521-4173-4B09-8372-BC5CED06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8DA-B432-41CE-9497-01E5D555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FC71-B792-4A3C-8FE0-836E1362DF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бновление содержания ДООП и  реализации их на практике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" name="Rectangle 165"/>
          <p:cNvSpPr/>
          <p:nvPr/>
        </p:nvSpPr>
        <p:spPr>
          <a:xfrm>
            <a:off x="4427640" y="2349360"/>
            <a:ext cx="41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Демахина Т.П.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методист МАУДО «Ц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ТД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«Созвездие» г.Орск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742788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ребования к оформлению ДООП: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86920" y="765000"/>
            <a:ext cx="7705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екст должен быть набран на компьютере  в тестовом редакторе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шрифт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егль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раницы нумеруются последовательно, кроме титульного л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головки набираются полужирным шрифтом, выравнивание по центру. Точка в конце заголовка не став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Материал, дополняющий текст документа, помещаем  в приложение.                             Приложения располагаются в порядке ссылок на них в тексте документа.                                                             В тексте на все приложения должны быть ссылки. Приложения должны иметь общую с остальной частью документа нумерацию 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554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75" name="Picture 4" descr="C:\Users\admin\Downloads\images.jpg"/>
          <p:cNvPicPr/>
          <p:nvPr/>
        </p:nvPicPr>
        <p:blipFill>
          <a:blip r:embed="rId1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508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евые ориентиры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полнительного образования детей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7000"/>
            <a:ext cx="748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творческих способностей обучаю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здоровья и формирование культуры здорового и безопасного образа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 свободного времени и адаптация к жизни в общест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ориентация, выявление и поддержка детей, проявивших выдающиеся способ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812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Формирование и развитие творческих способностей обучающихся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409400"/>
            <a:ext cx="781200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творческий потенциал и потребность обучающихся в творческом самовыраж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 обучающихся потребность к участию в 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ть и развивать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аренны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алантливых детей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вать творческие способности и воображение обучающихся в процессе игрового об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ознавательную, исследовательскую и творческую деятельность обучаю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956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Укрепление здоровья и формирование культуры здорового и безопасного образа жизни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8560" y="1700280"/>
            <a:ext cx="7705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стойчивое ценностное отношение к своему здоровь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негативное отношение  к асоциальным проявлениям несоблюдения правил ЗОЖ (курение, алкоголь, наркотики, допинг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навыки практического взаимодействия с окружающей средо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основы здорового образа жизни, гигиенические знания и ум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основы безопасной жизнеде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4167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Организация  свободного времени и адаптация к жизни в обществе</a:t>
            </a:r>
            <a:br>
              <a:rPr sz="3200"/>
            </a:b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273320"/>
            <a:ext cx="7812000" cy="52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ормировать навыки безопасного практического взаимодействия с социальной сред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спитывать общественную активность, или активную жизненную позицию, интерес  к общественной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ормировать основы безопасности жизнедеятельности и  умение адаптироваться к новым условия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одействовать осознанию своих интересов, способностей, общественных ценностей, связанных с выбором своего места в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18108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885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Профессиональная ориентация и поддержка детей, проявивших выдающиеся способности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6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7885080" cy="501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ормировать первичные представления о мире современных професс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накомить с трудом людей различных профессий (указать конкрет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сширять систему представлений обучающихся о мире современных профессий и их востребованности в настоящее врем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сширять представления о профессиях, связанных со спецификой местных усло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вышать информированность об основных профессиях (указать направление деятельност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416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ая рекомендация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ить содержание   воспитательного модуля к ДООП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31640" y="1915920"/>
            <a:ext cx="73436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для педагогов, реализующих ДООП на базе иных организаций (школ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детей в групп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од обучения – от 15 до 3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обучения – от 12 до 3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и 4 годы обучения – от 10 до 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1332000" y="189000"/>
            <a:ext cx="748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образования администрации г.Орск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учреждение дополнительного образован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развития творчества детей и юношества «Созвездие» г.Орс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1476360" y="98100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м сове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№3 от 18.11. 2021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5651640" y="907920"/>
            <a:ext cx="349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 МАУДО «ЦРТДЮ «Созвездие» г.Орска»______________С.Ю. Наслед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№ 93/01-02-01 от 18.11. 2021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1476360" y="1773360"/>
            <a:ext cx="73436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 общеобразов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ая 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о-спортив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щая физическая подготов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сво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обучающихся: 7 –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: 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Орск, 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pedsovet.su/_ld/458/310942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1835280" y="0"/>
            <a:ext cx="684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образования администрации г.Ор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учреждение дополните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развития творчества детей и юношества «Созвездие» г.Орс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1979640" y="1125360"/>
            <a:ext cx="266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м сове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№3 от 18.11. 2021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5508720" y="1052640"/>
            <a:ext cx="3384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 МАУДО «ЦРТДЮ «Созвездие» г.Орска»______________С.Ю. Наслед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№ 93/01-02-01 от 18.11. 2021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1835280" y="2133720"/>
            <a:ext cx="698472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 общеобразов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ая програм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о-спортив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щая физическая подготов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сво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обучающихся: 7 – 11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: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Орск, 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dmin</cp:lastModifiedBy>
  <dcterms:modified xsi:type="dcterms:W3CDTF">2022-05-30T10:06:37Z</dcterms:modified>
  <cp:revision>752</cp:revision>
  <dc:subject/>
  <dc:title>Diapositiva 1</dc:title>
</cp:coreProperties>
</file>