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D8B3-E8F5-43F5-94FB-A54456537B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74FD-824C-4AAC-9778-CDCE889A61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E03C-B1CB-48C3-AE75-3CFA67AD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24B3-DD51-4BFC-94FC-F030BB0D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84B-9228-432C-A4B5-C9A82F07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BED1-E566-47A2-9B4B-3FC37EF4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DC6A-65F8-4B7A-BAA6-414906BD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BB6C-37D1-421F-BA97-1B41F530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E6FA-5A46-4829-8FB7-0E042144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A51-CB1D-4F8C-8EBC-6173A2BD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3C6F-82A8-4446-9721-C6001BD1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D337-3891-474C-A2D4-2A6E554B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45D8-6057-40F7-9602-565E9049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C27A-F9F8-4D8F-AE97-CAD42F4D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910F-C668-46EF-AEB8-9CD71CAF272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Обновление содержания ДООП и  реализации их на практике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9" name="Rectangle 165"/>
          <p:cNvSpPr/>
          <p:nvPr/>
        </p:nvSpPr>
        <p:spPr>
          <a:xfrm>
            <a:off x="4427640" y="2349360"/>
            <a:ext cx="410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Демахина Т.П.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методист МАУДО «Ц</a:t>
            </a: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ТДЮ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«Созвездие» г.Орск</a:t>
            </a: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742788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ребования к оформлению ДООП: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186920" y="765000"/>
            <a:ext cx="7705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екст должен быть набран на компьютере  в тестовом редакторе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шрифт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егль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раницы нумеруются последовательно, кроме титульного ли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головки набираются полужирным шрифтом, выравнивание по центру. Точка в конце заголовка не став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Материал, дополняющий текст документа, помещаем  в приложение.                             Приложения располагаются в порядке ссылок на них в тексте документа.                                                             В тексте на все приложения должны быть ссылки. Приложения должны иметь общую с остальной частью документа нумерацию стра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554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75" name="Picture 4" descr="C:\Users\admin\Downloads\images.jpg"/>
          <p:cNvPicPr/>
          <p:nvPr/>
        </p:nvPicPr>
        <p:blipFill>
          <a:blip r:embed="rId1"/>
          <a:stretch/>
        </p:blipFill>
        <p:spPr>
          <a:xfrm>
            <a:off x="1332000" y="0"/>
            <a:ext cx="78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508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Целевые ориентиры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полнительного образования детей 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197000"/>
            <a:ext cx="7488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 развитие творческих способностей обучаю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ение здоровья и формирование культуры здорового и безопасного образа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 свободного времени и адаптация к жизни в обществ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ориентация, выявление и поддержка детей, проявивших выдающиеся способ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812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Формирование и развитие творческих способностей обучающихся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409400"/>
            <a:ext cx="7812000" cy="48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творческий потенциал и потребность обучающихся в творческом самовыраж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у обучающихся потребность к участию в творче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ть и развивать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аренны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алантливых детей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вать творческие способности и воображение обучающихся в процессе игрового общ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познавательную, исследовательскую и творческую деятельность обучаю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956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Укрепление здоровья и формирование культуры здорового и безопасного образа жизни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58560" y="1700280"/>
            <a:ext cx="7705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устойчивое ценностное отношение к своему здоровь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негативное отношение  к асоциальным проявлениям несоблюдения правил ЗОЖ (курение, алкоголь, наркотики, допинг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навыки практического взаимодействия с окружающей средо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основы здорового образа жизни, гигиенические знания и ум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основы безопасной жизнедеяте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41672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Организация  свободного времени и адаптация к жизни в обществе</a:t>
            </a:r>
            <a:br>
              <a:rPr sz="3200"/>
            </a:b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2000" y="1273320"/>
            <a:ext cx="7812000" cy="52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формировать навыки безопасного практического взаимодействия с социальной сред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оспитывать общественную активность, или активную жизненную позицию, интерес  к общественной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формировать основы безопасности жизнедеятельности и  умение адаптироваться к новым условия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одействовать осознанию своих интересов, способностей, общественных ценностей, связанных с выбором своего места в общ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18108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8850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4. Профессиональная ориентация и поддержка детей, проявивших выдающиеся способности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2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7885080" cy="501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формировать первичные представления о мире современных професс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знакомить с трудом людей различных профессий (указать конкрет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сширять систему представлений обучающихся о мире современных профессий и их востребованности в настоящее врем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сширять представления о профессиях, связанных со спецификой местных усло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овышать информированность об основных профессиях (указать направление деятельност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4167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ая рекомендация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ить содержание   воспитательного модуля к ДООП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31640" y="1915920"/>
            <a:ext cx="73436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комендации для педагогов, реализующих ДООП на базе иных организаций (школ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детей в групп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од обучения – от 15 до 3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обучения – от 12 до 3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и 4 годы обучения – от 10 до 3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3"/>
          <p:cNvSpPr/>
          <p:nvPr/>
        </p:nvSpPr>
        <p:spPr>
          <a:xfrm>
            <a:off x="1332000" y="189000"/>
            <a:ext cx="748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образования администрации г.Орск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учреждение дополнительного образован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развития творчества детей и юношества «Созвездие» г.Орск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1476360" y="981000"/>
            <a:ext cx="36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м сове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 №3 от 18.11. 2021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5651640" y="907920"/>
            <a:ext cx="349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 МАУДО «ЦРТДЮ «Созвездие» г.Орска»______________С.Ю. Наслед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№ 93/01-02-01 от 18.11. 2021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1476360" y="1773360"/>
            <a:ext cx="73436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ая общеобразова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азвивающая програ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урно-спортивн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щая физическая подготов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осво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 обучающихся: 7 – 1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: 3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Орск, 20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s://pedsovet.su/_ld/458/3109428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1835280" y="0"/>
            <a:ext cx="684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образования администрации г.Орс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учреждение дополните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развития творчества детей и юношества «Созвездие» г.Орск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1979640" y="1125360"/>
            <a:ext cx="266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м сове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 №3 от 18.11. 2021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5508720" y="1052640"/>
            <a:ext cx="3384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 МАУДО «ЦРТДЮ «Созвездие» г.Орска»______________С.Ю. Наслед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№ 93/01-02-01 от 18.11. 2021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6"/>
          <p:cNvSpPr/>
          <p:nvPr/>
        </p:nvSpPr>
        <p:spPr>
          <a:xfrm>
            <a:off x="1835280" y="2133720"/>
            <a:ext cx="6984720" cy="41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ая общеобразов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азвивающая програм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урно-спортивн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щая физическая подготов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осво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 обучающихся: 7 – 11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: 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Орск, 20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dmin</cp:lastModifiedBy>
  <dcterms:modified xsi:type="dcterms:W3CDTF">2022-05-30T10:06:37Z</dcterms:modified>
  <cp:revision>752</cp:revision>
  <dc:subject/>
  <dc:title>Diapositiva 1</dc:title>
</cp:coreProperties>
</file>